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FE0B-7D62-423E-AB54-E3B01FEEF9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F487-09D3-4777-B34E-066A0451E7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844560" y="703440"/>
            <a:ext cx="5170320" cy="34462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0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3232-5CDF-48A0-ADC7-56BAACF413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1209600" y="693720"/>
            <a:ext cx="4438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D502-1BE5-4A48-9CDA-674CCA40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12D8-33CD-40B9-B458-78AF694E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9932-C160-448F-BC46-6C90EB7D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95BC-1CC2-4616-8621-51F523A5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D978-CD8C-4E2E-AE8E-5C5397D2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8F0-3713-4D45-922A-E930AB06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E12-BD2C-41C1-B773-CCFC5444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93D0-1CFF-43B2-860A-10F1C367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228240"/>
            <a:ext cx="9515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16AC-754B-4A63-A0FE-EE672AA5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D2F9-9906-43C4-B814-49FB1B2B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D86-B1FC-4FBB-A32A-8E5E765E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C7CE-2138-4CEF-A735-AAA7C959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590E-BFC7-4156-B677-36FBFB77BB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 rot="5400000">
            <a:off x="1709640" y="-1719360"/>
            <a:ext cx="6850080" cy="10304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576360" y="722160"/>
            <a:ext cx="928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Rounded MT Bold"/>
                <a:ea typeface="DejaVu Sans"/>
              </a:rPr>
              <a:t>Neuroenergetics: Modeling brain cell metabolic pheno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7720" y="2639880"/>
            <a:ext cx="100699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Rounded MT Bold"/>
                <a:ea typeface="DejaVu Sans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Arial Rounded MT Bold"/>
                <a:ea typeface="DejaVu Sans"/>
              </a:rPr>
              <a:t>Solving biological problems that require Math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Rounded MT Bold"/>
                <a:ea typeface="DejaVu Sans"/>
              </a:rPr>
              <a:t>Project supervis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Rounded MT Bold"/>
                <a:ea typeface="DejaVu Sans"/>
              </a:rPr>
              <a:t>Luc Pelle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Rounded MT Bold"/>
                <a:ea typeface="DejaVu Sans"/>
              </a:rPr>
              <a:t>Aitana Morton de Lachap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448000" y="631800"/>
            <a:ext cx="52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Plan général du proj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3760" y="1696680"/>
            <a:ext cx="93344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Introduction à la neuroénergé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rôle du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rôle du lac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Rounded MT Bold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Buts du pro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eproduire les résultats dans Barros et al. sur le rôle du transport du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modélisation de profils métaboliques différents (neurone vs astrocy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ôle du transport de lactate pour le métabolisme des neur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Rounded MT Bold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Outils mathéma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équations différentielles ordin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Mat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825480" y="762120"/>
            <a:ext cx="8674200" cy="591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Astrocyte_2"/>
          <p:cNvPicPr/>
          <p:nvPr/>
        </p:nvPicPr>
        <p:blipFill>
          <a:blip r:embed="rId1"/>
          <a:srcRect l="1401" t="3146" r="1563" b="1351"/>
          <a:stretch/>
        </p:blipFill>
        <p:spPr>
          <a:xfrm>
            <a:off x="852480" y="771480"/>
            <a:ext cx="8618400" cy="58928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1007640" y="19414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ffff"/>
                </a:solidFill>
                <a:latin typeface="Eurostile"/>
                <a:ea typeface="ＭＳ Ｐゴシック"/>
              </a:rPr>
              <a:t>NEU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139000" y="194148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ffff"/>
                </a:solidFill>
                <a:latin typeface="Eurostile"/>
                <a:ea typeface="ＭＳ Ｐゴシック"/>
              </a:rPr>
              <a:t>ASTROC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8181720" y="1940040"/>
            <a:ext cx="128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ffff"/>
                </a:solidFill>
                <a:latin typeface="Eurostile"/>
                <a:ea typeface="ＭＳ Ｐゴシック"/>
              </a:rPr>
              <a:t>CAPIL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893000" y="394164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481720" y="345132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762080" y="3741840"/>
            <a:ext cx="98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4726440" y="413712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2271600" y="9525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2269440" y="137016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Eurostile"/>
                <a:ea typeface="ＭＳ Ｐゴシック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2284560" y="17762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Lac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2302920" y="212868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2449440" y="30160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2153520" y="3354480"/>
            <a:ext cx="98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2176920" y="372600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2162520" y="520524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4681800" y="28004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Lac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4550760" y="309096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4504680" y="347040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Eurostile"/>
                <a:ea typeface="ＭＳ Ｐゴシック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4753080" y="5237280"/>
            <a:ext cx="1663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cose transpo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-1    in capill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              </a:t>
            </a: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and in astrocy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-3    in neur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4696560" y="5946840"/>
            <a:ext cx="205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Monocarboxylate transpo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MCT1    in astrocy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MCT2    in neur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6513120" y="5224320"/>
            <a:ext cx="3047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ine  transpo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SN-1   System N transporter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          </a:t>
            </a: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in astrocy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SAT    Sodium-dependent aminoacid transpo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          </a:t>
            </a: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in neur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6556320" y="5972040"/>
            <a:ext cx="253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ate transpo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EAAT  (excitatory aminoacid trasporter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         </a:t>
            </a: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in astrocy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5891400" y="313056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2535120" y="210960"/>
            <a:ext cx="53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Astrocyte-Neuron Lactate Shu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28"/>
          <p:cNvSpPr/>
          <p:nvPr/>
        </p:nvSpPr>
        <p:spPr>
          <a:xfrm>
            <a:off x="2500200" y="203040"/>
            <a:ext cx="5391360" cy="474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448000" y="631800"/>
            <a:ext cx="52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Plan général du proj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3760" y="1696680"/>
            <a:ext cx="93344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Introduction à la neuroénergé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ôle du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ôle du lac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Buts du pro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reproduire les résultats dans Barros et al. sur le rôle du transport du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modélisation de profils métaboliques différents (neurone vs astrocy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rôle du transport de lactate pour le métabolisme des neur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Rounded MT Bold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Outils mathéma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équations différentielles ordin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Mat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359000" y="698400"/>
            <a:ext cx="7315200" cy="576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1743120" y="977760"/>
            <a:ext cx="6680160" cy="53355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4835160" y="639756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Barros et al. (2005) TINS 28:117-119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874800" y="162000"/>
            <a:ext cx="834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 Rounded MT Bold"/>
              </a:rPr>
              <a:t>R</a:t>
            </a:r>
            <a:r>
              <a:rPr b="1" lang="fr-FR" sz="2000" spc="-1" strike="noStrike">
                <a:solidFill>
                  <a:srgbClr val="ffff00"/>
                </a:solidFill>
                <a:latin typeface="Arial Rounded MT Bold"/>
                <a:ea typeface="ＭＳ Ｐゴシック"/>
              </a:rPr>
              <a:t>ô</a:t>
            </a:r>
            <a:r>
              <a:rPr b="1" lang="fr-FR" sz="2000" spc="-1" strike="noStrike">
                <a:solidFill>
                  <a:srgbClr val="ffff00"/>
                </a:solidFill>
                <a:latin typeface="Arial Rounded MT Bold"/>
              </a:rPr>
              <a:t>le du transport du glucose pour son utilisation par les cell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946080" y="152280"/>
            <a:ext cx="8182080" cy="444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359000" y="1697040"/>
            <a:ext cx="7315200" cy="476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58480" y="393840"/>
            <a:ext cx="9571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 Rounded MT Bold"/>
              </a:rPr>
              <a:t>Modélisation de phénotypes métaboliques différ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 Rounded MT Bold"/>
              </a:rPr>
              <a:t>Neurone vs Astr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372960" y="415800"/>
            <a:ext cx="9350640" cy="884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2448000" y="2014560"/>
            <a:ext cx="5052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448000" y="631800"/>
            <a:ext cx="52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Plan général du proj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3760" y="1696680"/>
            <a:ext cx="93344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Introduction à la neuroénergé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ôle du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ôle du lac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Rounded MT Bold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Buts du pro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eproduire les résultats dans Barros et al. sur le rôle du transport du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modélisation de profils métaboliques différents (neurone vs astrocy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ôle du transport de lactate pour le métabolisme des neur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Outils mathéma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équations différentielles ordin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Mat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08000"/>
            <a:ext cx="95184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Outils mathémat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2280" y="1328760"/>
            <a:ext cx="9256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Une équation différentielle est une relation entre une ou plusieurs fonctions inconnues et leurs dérivé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Les équations différentielles sont utilisées pour construire des modèles mathématiques de phénomènes physiques ou biologiques par 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MATLAB est à la fois un langage de programmation et un environnement de développement utilisé pour le calcul numér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876400" y="2268360"/>
            <a:ext cx="4980240" cy="91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0T09:53:26Z</dcterms:created>
  <dc:creator>P.J. Magistretti</dc:creator>
  <dc:description/>
  <dc:language>en-US</dc:language>
  <cp:lastModifiedBy>Aitana Morton de Lachapelle</cp:lastModifiedBy>
  <dcterms:modified xsi:type="dcterms:W3CDTF">2011-02-24T14:10:27Z</dcterms:modified>
  <cp:revision>122</cp:revision>
  <dc:subject/>
  <dc:title>Aucun titre de diapositive</dc:title>
</cp:coreProperties>
</file>